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2FC-22E9-45BD-9368-C5B40301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A7A-F76D-4E9D-BA46-317D39A6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005-A91A-4A77-81FA-E6FB6C23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511-73F1-4CDB-9935-21288D28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6E6-8430-4019-B43F-E42015AA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976-FA70-4E64-8680-FC823C02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C66-FF85-4864-B253-E038452D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18B-647F-4931-9CC7-C3DDE0DF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882-06E7-42D4-AA25-4FF4ACC8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020-AF89-4EE3-A29D-19425452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296-CFBD-4E75-B7C0-8F53F590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A15-31D5-4EE8-B9D7-0CDF190F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A3F7-271C-4036-B8F5-59BF9A1E0BE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C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2C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8192C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quick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xecute shell script “install.s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./install.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192cu_linux_v3.0.xxxx.2011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333399"/>
                </a:solidFill>
                <a:latin typeface="Arial"/>
              </a:rPr>
              <a:t>tar zxvf</a:t>
            </a:r>
            <a:r>
              <a:rPr b="0" i="1" lang="zh-TW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333399"/>
                </a:solidFill>
                <a:latin typeface="Arial"/>
              </a:rPr>
              <a:t>rtl8192_8188CU_linux_v3.0.2052.20110701 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2) step2: make 8192C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drive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./c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4) step4: insert 8192C USB 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insmod 8192cu.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step1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georgia</cp:lastModifiedBy>
  <dcterms:modified xsi:type="dcterms:W3CDTF">2011-07-05T02:38:30Z</dcterms:modified>
  <cp:revision>133</cp:revision>
  <dc:subject/>
  <dc:title>投影片 1</dc:title>
</cp:coreProperties>
</file>